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5889-E20C-4AA4-A0EF-FF6DB35C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37A0-FB69-4F3B-9F88-0608037D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27C-2E39-4D94-8395-4935334A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F42-C2EE-47AA-8AD5-A2EFE7B1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2BB-C40D-4B91-BB63-C1D65DD7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ABB-B62B-4A36-8767-2A041626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DFE-048C-4E8B-AE34-4CDE6C5B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166-D498-41EF-A3BC-E41756DB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111-67ED-400B-AF32-AF1BB95F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5B5-3E7E-4B72-B404-6338AFEF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82D-4F4C-4D7F-A430-BF44B9CB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0FA-43AC-4BA0-8B28-78FE67DB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2F6-E275-4A27-AAD1-834E32CB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A4D-CF6E-4BB3-888F-8B1F0829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06B6-2C36-47C5-9676-458CAD2CE0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en.wikipedia.org/wiki/File:Flag_of_Egypt.svg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hyperlink" Target="http://www.theodora.com/wfbcurrent/egypt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505320" y="0"/>
            <a:ext cx="228600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Egy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country that is one of the oldest most continuous civiliz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666880" y="1905120"/>
            <a:ext cx="4267440" cy="3722400"/>
          </a:xfrm>
          <a:prstGeom prst="rect">
            <a:avLst/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"/>
              </a:rPr>
              <a:t>Country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ital: C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guage: Arabic/French,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igions: Muslim 94%, Christian and  Other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teracy Rate: 66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ural Resources: Petroleum,  Natural Gas, Phosphates, and Iron 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0" y="4343400"/>
            <a:ext cx="1676520" cy="398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gypt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http://www.worldatlas.com/webimage/countrys/africa/egafrica.gif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308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Map of Egypt"/>
          <p:cNvPicPr/>
          <p:nvPr/>
        </p:nvPicPr>
        <p:blipFill>
          <a:blip r:embed="rId3"/>
          <a:stretch/>
        </p:blipFill>
        <p:spPr>
          <a:xfrm>
            <a:off x="0" y="0"/>
            <a:ext cx="2590920" cy="284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http://upload.wikimedia.org/wikipedia/commons/thumb/f/fe/Flag_of_Egypt.svg/300px-Flag_of_Egypt.svg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97180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Theatre of El Salam in Alexandria"/>
          <p:cNvPicPr/>
          <p:nvPr/>
        </p:nvPicPr>
        <p:blipFill>
          <a:blip r:embed="rId6"/>
          <a:stretch/>
        </p:blipFill>
        <p:spPr>
          <a:xfrm>
            <a:off x="0" y="4876920"/>
            <a:ext cx="2133720" cy="1601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7"/>
          <p:cNvSpPr/>
          <p:nvPr/>
        </p:nvSpPr>
        <p:spPr>
          <a:xfrm>
            <a:off x="0" y="6488280"/>
            <a:ext cx="228600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rn Day 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http://www.multimedia-publishing.com/t028267a.jpg"/>
          <p:cNvPicPr/>
          <p:nvPr/>
        </p:nvPicPr>
        <p:blipFill>
          <a:blip r:embed="rId7"/>
          <a:stretch/>
        </p:blipFill>
        <p:spPr>
          <a:xfrm>
            <a:off x="3962520" y="5181480"/>
            <a:ext cx="1600200" cy="1067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6"/>
          <p:cNvSpPr/>
          <p:nvPr/>
        </p:nvSpPr>
        <p:spPr>
          <a:xfrm>
            <a:off x="3962520" y="6211800"/>
            <a:ext cx="182880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7772400" y="6477120"/>
            <a:ext cx="13716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y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Streetside Clothes market in Luxor, Egypt phot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705720" y="373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6705720" y="57913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thing in Eg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poweruser</cp:lastModifiedBy>
  <dcterms:modified xsi:type="dcterms:W3CDTF">2011-11-07T16:35:27Z</dcterms:modified>
  <cp:revision>22</cp:revision>
  <dc:subject/>
  <dc:title>Slide 1</dc:title>
</cp:coreProperties>
</file>